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6FA-64FD-4043-A00A-3F968397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56C-57B9-4D2D-A407-2D1D2952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5EB-20CD-43C6-A493-42BBFC17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5CE-5C83-45A7-A883-23704C60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24B-AD78-45D8-AE1F-DE2F66BD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9AC6-67A5-4262-A517-B6AD96F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48B6-78E7-47F4-91BE-74E2BD8F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D0C1-EB4F-4076-935F-1540AA62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729-94FA-4E16-98F5-0707C361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E96B-E08A-4C3C-B6CA-B28AFC82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3ECD-4736-4964-A9E6-10A86183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798-8DAB-4030-8E70-36787D13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29E5-CA92-43BC-A893-95365D10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BF8C-050A-401D-BA37-CA496446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A44C-DA5D-4F9A-ACF2-E6743648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951C-E21A-416A-B055-90EED805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C583-8293-4420-9C32-95DAAF04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70CAF-A5BC-4A9B-943E-E1BA0103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CCCDE-23E4-45C2-B071-8901ED73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1E597-0E30-4C55-9C0E-8C3B0BF1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ED591-6311-4CF9-85DF-02B1FB7F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9C4D5-6A10-452D-95FE-3B5BA3F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F0F-ADE4-4243-8178-8E69445D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242D5-2AA7-49C7-9704-E5A186E6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64ACC-749F-40A1-B9BD-47F3E1B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3D9BA-46F2-4331-B4AD-83AAF752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7556D-8308-4A33-A50D-C8172DC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8689E-BF2A-473D-A47B-37288077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97FF4-35E2-4B13-A214-1F04BF89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923C6-693B-462B-87BD-C6BD35D2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2FE59-0554-44BC-8D36-62F64AD5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9CD3F-B869-4285-8F61-0E90D220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E8BC6-1A4E-476C-8699-D7EDAC41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971-F5CD-4991-8091-DBE771C3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BBEDA-79D3-4B6F-974E-75F0086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2BC65-5B5D-4A6F-9EDD-B2C0077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F7F16-25BB-4702-BDB8-8E536E7C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8CD5B-538C-4E57-8E70-A2BDFE03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6732B-6466-4CA2-91CC-41A13723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63C33-4CA3-4263-B2B0-2DEDEFE3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0D78A-F51E-4753-9172-6FEFA44A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E40F6-5405-42CB-BC25-46D59818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3854C-CE15-4684-AB82-44F98088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BF525-454D-452E-A2BF-F479F0FC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14C-8348-4430-85F6-76EBAC3D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3999C-17A9-43AA-AA22-0AAF7596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75A0B-1304-4ED0-A60E-EB6DD3AA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F4875-862E-42B9-979E-61A4B48F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4EC72-6E84-475F-B890-F139E933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F9B17-22C3-48A5-907E-A7CE4871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C7614-4C71-4DA5-8919-16AC70B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79BDB-7757-440E-B378-1D1454E5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7CB5C-2BA7-4D60-8937-9978337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0B6CD-56DE-40E5-892B-EFE376B6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0EFC8-BA28-44FE-8062-C9FDF8AA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C64-CE8E-4DF1-83C1-C23EE009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FC908-EA0A-42E6-8BC2-CF3FEAC3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CB5A0-36BC-475C-9FF5-48261A4B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EA7B-91FB-4351-8D56-5F931E9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9AADC-03DE-4539-AE2C-0AD1CB8E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262BC-9BAE-4EB5-9648-C5E39A06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6582-A9CA-4064-B6FC-AE6606AD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412D8-5EA8-4030-BCCB-7B9DCC95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59AE-F27E-4926-A621-9E73BC0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DFB1B-0645-4BE3-BAAF-2510221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B5853-25CC-49C1-952A-0CD16B2F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E9B-0363-4932-B09C-2E65BDE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2DCB9-B9FF-4F36-8819-01D53F6A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CC774-BDB0-440D-9D49-82B74CA7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9C01E-4F84-4417-9DEF-954103CE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F8A70-8BB9-4379-805C-FCDD522A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097E5-E4D0-4AC4-9C41-D44EF576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84D5D-8D7E-474D-A9EC-01D43550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69170-8B0D-4EB2-B374-A54B4798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E6568-3721-4BA2-88F4-1D9FDBB7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3EAE3-1BC7-4B05-B45D-69B3AA81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C25698-D43E-4FE4-93B9-33A13304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009-DCEF-436E-9333-01A7CFC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406E1-CA16-4417-BAD2-BEBF979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B39CD-0CDE-48D1-B09F-8A35441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B260C-CA88-4741-A21F-B48C10B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B8F1F-B014-4BC5-B543-6D5ABF72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88417-60B7-4A34-95AA-D282FE99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375C-44C4-4045-A390-F3D220A7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DEEC4-1F11-4CE3-A68E-D93F2A75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DAB60-6E55-4F1B-8A58-0AAA160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375C-9167-43F4-8650-1DB98DCF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C3A3-CBD5-421F-95F0-664C300A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477-1ED7-40FE-9110-4B27C6D7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ADAB-3E81-4829-BF29-B39E82F5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50ECB-0FA3-4864-B2A7-5456AD71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6BCD3-0EB7-4277-90E5-74011E52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D2BE-AF41-41A8-AF42-719C29B9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F8EE5-B7F9-466B-8326-7D4F54F3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A6412-143B-4BC7-ADE7-9DD2C625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CB107-82F7-45D0-82B0-6DFC0DF9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C71A-F87E-4565-8F9B-998271C9765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8CC3-A963-4B18-B832-365EB93FB2E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54EF-36A6-44E7-BB0A-1D246C56E4A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8213-B7B1-4989-98BF-56055831FA0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FC83-5CE6-4042-8B91-D68DF11D785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17B7-4924-4CA3-A1C6-DFC724A8033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3675-C1C4-425D-A15D-B2D5AB1CF69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08A9-D86E-468E-A190-ABA84A0967B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POETR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erms for the Journe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ften refers to the set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n though a poem is short, the audience should be able to identify where it takes place as well as time peri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sona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etition of the same or similar vowe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ccurs especially in stressed syllab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o unify a po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distracting if used ineffective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ter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etition of consonant sounds in consecutive or neighboring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ually found at the beginning of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o enhance sound in a po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nomatopoe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ound of a word echoes its mea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Ban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cras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hi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e of the earliest and most primitive ways of enhancing sound in a po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onn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osed form poe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4 line poem with specific rhyme sche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akespearean Sonn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ree quatrains with concluding coup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ambic pentame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bab, cdcd, efef, g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e in first quatrain, develop in next two, finish in coup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onnet (cont.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trarchan Sonn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ne octave and one sest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ambic pentame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bba, abba, cde, cd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ent problem in octave, resolve in sest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lla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ally made to be 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repeated words and phrases to advance sto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rrative poe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at does this mean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ree Ver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identifiable rhyme or me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odd breaks in li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still certain things that unify a poem – repeated words and appearances of words on the printed p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hym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of matching sound patterns in two or more words:  “tight” and “might” or “sleep” and “deep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rhyme to be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perf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the final vowel and consonant patterns must be the sa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mperfect rhyme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ccurs when the final consonant sounds are the same but the vowel pattern is different:  “learn” and “barn” or “road” and “dead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common type of rhyme is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end rhym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where the final words of each line rhy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hyth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regular occurrence of soun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ating of a heart, lapping of wa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hieved through balanced structure and regular rhyme and me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way words are set up on a page can help achieve certain rhy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anz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roup of two or more lines with the same metrical pattern – and often with a regular rhyme scheme as well – separated by blank sp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nctions like a paragraph – groups related id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ypes of Stanza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uplet – two line stanza with rhyming lines of similar length and me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atrain – four line stanza with rhyming lines of similar length and me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roic couplet – consists of two rhymed lines of iambic pentameter – there is a weak pause after the first line and a strong pause after the seco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o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e handou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t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recurrence of regular units of stressed and unstressed syllab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stres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or accent) occurs when one syllable is emphasized more than anot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. Basic, Illu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ders analyze meter by looking at the po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peak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ke other literature, there is a speaker in poe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ften not the auth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aker is also called the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perso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a poem will have a speaker, but the author’s voice will shine through as we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’t ever assume that the author is naturally the poem’s speak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uestions for finding the speak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speaker old or you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ppy?  Sad?  Defiant?  Angry?  Dista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poem written in first person?  Second? Thir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– sometimes this will tell who the speaker 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speaker isolated?  Without self control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speaker being blunt about what he / she has to sa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02:01Z</dcterms:created>
  <dc:creator>Administrator</dc:creator>
  <dc:description/>
  <dc:language>en-US</dc:language>
  <cp:lastModifiedBy>Administrator</cp:lastModifiedBy>
  <dcterms:modified xsi:type="dcterms:W3CDTF">2011-12-01T14:18:32Z</dcterms:modified>
  <cp:revision>7</cp:revision>
  <dc:subject/>
  <dc:title>Poetry</dc:title>
</cp:coreProperties>
</file>